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0.jpeg" ContentType="image/jpeg"/>
  <Override PartName="/ppt/media/image9.wmf" ContentType="image/x-wmf"/>
  <Override PartName="/ppt/media/image14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5.wmf" ContentType="image/x-wmf"/>
  <Override PartName="/ppt/media/image13.jpeg" ContentType="image/jpeg"/>
  <Override PartName="/ppt/media/image23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25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00B07-9CB3-4DA2-B39D-C93B13A7DA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9FC6-3DED-4B34-842E-4004CD373AEC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Notes Placeholder 7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chliepha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F194B-6200-4121-AF37-58BF4E4BFEFE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80D7-EE94-486E-ADA8-6B675E95D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260A-2222-421A-864A-DD90875F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24E2-49A2-4879-8F07-2BD26E82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9381-278F-415F-8AD8-E5961DAF5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E4DB-6BA0-4B0C-BDF5-178F1C27F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C3D1-1EAF-43E7-8F12-1BE1F72EA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4103-52CC-4DA5-A9CD-B29D1270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1642-E2F2-444C-8EE4-F80A7297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F0E2C-5638-4469-9579-48901DC7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CC57-D0DA-4AA6-AAC5-46F844435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FE81-AECF-4FC1-AEF1-3056B6DD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F612-BA10-4FDE-A817-FA5F12F9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CBF35-C123-414B-BC40-F35E01671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E1F2-CF6E-46EA-A821-66DE64F3C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BA171-B0C3-40D9-968C-B22858DC2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7C94D-54F0-46C1-8155-C0AC54F4A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875FB-EC83-49E9-9F70-BF5330671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BE7CB3-C8DF-42C8-9E56-6277BF460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5E328-CCCD-4E0F-9CBB-4B91AE21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B170C-F8A0-41D7-B481-ABBCE8D0F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516F3D-C0F5-4B2D-9AC3-825AAB34E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1CDE3-DC00-46AD-9F60-06EB66F1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3BFF-4C6E-4C84-9A07-5F854967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DD7F3-C9FD-4D40-A2B7-5E3B426A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B8995-12E6-464B-A513-5AE877BA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0EB0EA-8D8F-4E1D-8375-F4BE1EC6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2519D-6383-41A8-95D4-EB7289AB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9ABC8-B273-441A-93AF-242D18DDA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25882-7EF2-417E-ABFC-BC145BDFC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B33A5-A86D-4917-B433-4E9734F0C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9D12-A25E-49FB-897E-BD173DAE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8CF7-ECFA-4C8E-A91B-B99153396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76DB-1AF9-44BA-9379-10BDC386D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119B-AA19-4292-AE05-585BF4D0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1AAB-4B43-4DBA-8C46-CF6799CD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B6A1-A612-47F4-A5A4-736FE46D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9DE6-7B1D-4DFE-8893-83C82CBB8D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861E8-3BBC-4442-9340-3192A34DA34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9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9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4D33-AE84-4DEE-B40F-71BC23EEC6E5}" type="slidenum">
              <a:rPr b="0" lang="en-GB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НАИЗМЕНИЧН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РУЈ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аизменичн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руј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арактериш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ромен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нтензитет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равц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ретањ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јо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e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орија ендогених опиоид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постојајне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ендогеног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опијатног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неопијатног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система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постизању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аналгетског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ефекта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опијатни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рецептори:ми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капа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делта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ослобађају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енкефалини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ендорфини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динорфин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ндикације за ТЕН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стоперативни бо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рођајни бол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исменореј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РА и О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еуропатски бол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(постехерпетични, неуралгија н.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V,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 Мб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удек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стампутациони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Ангина пектори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онтраиндикације за ТЕН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Ep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Sinus caroticu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Гравидни утеру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Оштећена кож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руј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редњ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фреквенциј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интерферентне</a:t>
            </a:r>
            <a:r>
              <a:rPr b="1" lang="en-GB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mec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</a:t>
            </a:r>
            <a:r>
              <a:rPr b="1" lang="en-GB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труј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инусоидно</a:t>
            </a:r>
            <a:r>
              <a:rPr b="1" lang="en-GB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модулисане</a:t>
            </a:r>
            <a:r>
              <a:rPr b="1" lang="en-GB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трује</a:t>
            </a:r>
            <a:r>
              <a:rPr b="1" lang="en-GB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(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руска</a:t>
            </a:r>
            <a:r>
              <a:rPr b="1" lang="en-GB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тимулација</a:t>
            </a:r>
            <a:r>
              <a:rPr b="1" lang="en-GB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хоризонтална терапиј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нтерферентн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руј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инусоидалн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руј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 u="sng">
                <a:solidFill>
                  <a:srgbClr val="eaeaea"/>
                </a:solidFill>
                <a:uFillTx/>
                <a:latin typeface="Times New Roman"/>
              </a:rPr>
              <a:t>ниске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 u="sng">
                <a:solidFill>
                  <a:srgbClr val="eaeaea"/>
                </a:solidFill>
                <a:uFillTx/>
                <a:latin typeface="Times New Roman"/>
              </a:rPr>
              <a:t>фреквенце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ј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астају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 u="sng">
                <a:solidFill>
                  <a:srgbClr val="eaeaea"/>
                </a:solidFill>
                <a:uFillTx/>
                <a:latin typeface="Times New Roman"/>
              </a:rPr>
              <a:t>ендогено</a:t>
            </a:r>
            <a:r>
              <a:rPr b="0" lang="en-US" sz="32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ткивим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уперпозицијом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нтерференцијом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редњефреквентних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руј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з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в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амосталн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рујн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л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биоструј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Ов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л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мају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сти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нтезитет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,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различиту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фреквенцију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мпонент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руј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ем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електролиз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нтеферентн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Немец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ов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руј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рујн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л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нстантн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реквенциј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4000 Hz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рујн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л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аријабилн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реквенциј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3900-4100 H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реквенциј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1-100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H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,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етели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5" name="Picture 5" descr=""/>
          <p:cNvPicPr/>
          <p:nvPr/>
        </p:nvPicPr>
        <p:blipFill>
          <a:blip r:embed="rId1"/>
          <a:stretch/>
        </p:blipFill>
        <p:spPr>
          <a:xfrm>
            <a:off x="5029200" y="4876920"/>
            <a:ext cx="3809880" cy="10141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"/>
          <p:cNvPicPr/>
          <p:nvPr/>
        </p:nvPicPr>
        <p:blipFill>
          <a:blip r:embed="rId2"/>
          <a:stretch/>
        </p:blipFill>
        <p:spPr>
          <a:xfrm>
            <a:off x="5029200" y="1523880"/>
            <a:ext cx="380988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Техник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примен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Ф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локалн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гментн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едов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зон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ганглиотропн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андард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лочаст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акум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пецијал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вополарн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четворополарн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sr-CS" sz="4000" spc="-1" strike="noStrike">
                <a:solidFill>
                  <a:srgbClr val="ffcc66"/>
                </a:solidFill>
                <a:latin typeface="Times New Roman"/>
              </a:rPr>
              <a:t>Биолошки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 e</a:t>
            </a:r>
            <a:r>
              <a:rPr b="1" lang="sr-CS" sz="4000" spc="-1" strike="noStrike">
                <a:solidFill>
                  <a:srgbClr val="ffcc66"/>
                </a:solidFill>
                <a:latin typeface="Times New Roman"/>
              </a:rPr>
              <a:t>фекти</a:t>
            </a:r>
            <a:r>
              <a:rPr b="1" lang="en-US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sr-CS" sz="4000" spc="-1" strike="noStrike">
                <a:solidFill>
                  <a:srgbClr val="ffcc66"/>
                </a:solidFill>
                <a:latin typeface="Times New Roman"/>
              </a:rPr>
              <a:t>ИФС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228600" y="68580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стимулативно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крвоток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изазивајући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вазодилатацију(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бољ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прокрвљеност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окигенациј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ткив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брж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одстрањивањ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токсин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медијатор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бол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аналгетск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због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бољ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циркулациј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оксигенациј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ткив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дејств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нервн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завршетк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повећавају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надражљивост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спроводљивост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периферних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нерава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инхибиторно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симпатикус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стимулишу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парасимпатикус (</a:t>
            </a:r>
            <a:r>
              <a:rPr b="1" lang="sr-Latn-CS" sz="2000" spc="-1" strike="noStrike">
                <a:solidFill>
                  <a:srgbClr val="eaeaea"/>
                </a:solidFill>
                <a:latin typeface="Times New Roman"/>
              </a:rPr>
              <a:t>AcH,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могућ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других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хемијск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активних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материј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отганизм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убрзавају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лимфоток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што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омогућав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активниј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размен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електролит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посебно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јон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натријум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калцијум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калијум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ресорпциј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едем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побољшавају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трофику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активирајућ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оксидоредукцион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процес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организм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стимулиш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зарастање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ран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стимулишу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стварање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калус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код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фрактура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мењају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Latn-CS" sz="2000" spc="-1" strike="noStrike">
                <a:solidFill>
                  <a:srgbClr val="eaeaea"/>
                </a:solidFill>
                <a:latin typeface="Times New Roman"/>
              </a:rPr>
              <a:t>pH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вредност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к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алкалност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антиинфламаторно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убрзавајућ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циркулациј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метаболизам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eaeaea"/>
                </a:solidFill>
                <a:latin typeface="Times New Roman"/>
              </a:rPr>
              <a:t>ресорпцију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стимулативно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попречно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пругаст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глатк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мишићна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влакна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Физиолошки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ефекат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ФС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0-10 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Hz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 контракција мишић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90-100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Hz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 аналгетски и симпатиколитички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0-100 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Hz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 активна хиперемија, метаболизам и елиминација токсичних продуката; антиедемат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60-100 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Hz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 стимулативно деловање на регенерацију повређених нерава, мишића, кости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100 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Hz const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  симпатиколитичк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Дозирањ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Ф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јачи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руј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) -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убјективн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фреквенциј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z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) -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рем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ијагноз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трајањ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роцедур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ин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) - 5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о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30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ужи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третма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-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еограничен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Наизменичне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струје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ниске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фреквенције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нискофреквентне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струје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19320" y="251604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фарадска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труј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ранскутана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електрична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неурална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стимулација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(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ТЕНС</a:t>
            </a:r>
            <a:r>
              <a:rPr b="1" lang="en-GB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ндикациј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з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Ф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91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сттрауматск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ањ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нтузиј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исторзиј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луксациј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...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штан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релом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њихов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мпликациј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сеудоартроз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 Sudeck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...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цервикалн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лумбалн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индром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еуралгиј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еуритиси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ањ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сл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вред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живаца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артритис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артроз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 Bechtere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w,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HS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A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5280" indent="-3052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 Burger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 Raunauyd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онтраиндикациј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з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Ф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фебрилнос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екомпензациј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виталних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орган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акут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нфектив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обољењ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трудноћ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тромбофлебитис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алигнитет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инусоидн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модулисан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руј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руск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имулациј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)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асногордск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1969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реквенциј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5000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з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рапијск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фекат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10-150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з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2" name="Picture 5" descr=""/>
          <p:cNvPicPr/>
          <p:nvPr/>
        </p:nvPicPr>
        <p:blipFill>
          <a:blip r:embed="rId1"/>
          <a:stretch/>
        </p:blipFill>
        <p:spPr>
          <a:xfrm>
            <a:off x="5105520" y="1752480"/>
            <a:ext cx="3809880" cy="388620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6"/>
          <p:cNvSpPr/>
          <p:nvPr/>
        </p:nvSpPr>
        <p:spPr>
          <a:xfrm>
            <a:off x="1143000" y="3886200"/>
            <a:ext cx="396252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уби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одулациј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100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eaeaea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уби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одулациј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50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%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нтинуиран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ок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Високофреквентн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рује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ВФС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6324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ек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100.000 H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есл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189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годин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в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писа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оплотн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фекат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'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рсонвал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1892.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године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ј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спитива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фект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Ф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труј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човечиј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рганизам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Negelschmit 1908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годин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имен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Ф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азив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"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иатерми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200b5b"/>
                </a:solidFill>
                <a:latin typeface="Times New Roman"/>
              </a:rPr>
              <a:t>Шта је дијатермија?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42720" y="1523520"/>
            <a:ext cx="84582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Употреба нејонизујуће електромагнетне енергије из радио-фреквенцијског спектра као терап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ј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ског средств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1"/>
          <a:stretch/>
        </p:blipFill>
        <p:spPr>
          <a:xfrm>
            <a:off x="-17640" y="2819520"/>
            <a:ext cx="9179280" cy="3809880"/>
          </a:xfrm>
          <a:prstGeom prst="rect">
            <a:avLst/>
          </a:prstGeom>
          <a:ln w="0">
            <a:noFill/>
          </a:ln>
        </p:spPr>
      </p:pic>
      <p:sp>
        <p:nvSpPr>
          <p:cNvPr id="229" name="Oval 7"/>
          <p:cNvSpPr/>
          <p:nvPr/>
        </p:nvSpPr>
        <p:spPr>
          <a:xfrm>
            <a:off x="1447920" y="5486400"/>
            <a:ext cx="685800" cy="609480"/>
          </a:xfrm>
          <a:prstGeom prst="ellipse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Oval 8"/>
          <p:cNvSpPr/>
          <p:nvPr/>
        </p:nvSpPr>
        <p:spPr>
          <a:xfrm>
            <a:off x="3429000" y="5486400"/>
            <a:ext cx="685800" cy="609480"/>
          </a:xfrm>
          <a:prstGeom prst="ellipse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Oval 9"/>
          <p:cNvSpPr/>
          <p:nvPr/>
        </p:nvSpPr>
        <p:spPr>
          <a:xfrm>
            <a:off x="2362320" y="5486400"/>
            <a:ext cx="761760" cy="609480"/>
          </a:xfrm>
          <a:prstGeom prst="ellipse">
            <a:avLst/>
          </a:prstGeom>
          <a:noFill/>
          <a:ln w="5724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вак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a VFS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 представља електромагнетну енергију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Око проводника-ЕМП,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роз проводник електрична струј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је ће поље превагнути зависи од фреквенције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(таласне дужине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1371600" y="2133720"/>
            <a:ext cx="746748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Нормалан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распоред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дипол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молекула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у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организму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и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њихова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орјентација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и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сређеност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у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кондензаторском</a:t>
            </a:r>
            <a:r>
              <a:rPr b="0" lang="sv-SE" sz="3200" spc="-1" strike="noStrike">
                <a:solidFill>
                  <a:srgbClr val="0d0d0d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0d0d0d"/>
                </a:solidFill>
                <a:latin typeface="Times New Roman"/>
              </a:rPr>
              <a:t>колу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37" name="Picture 6" descr="KTD1"/>
          <p:cNvPicPr/>
          <p:nvPr/>
        </p:nvPicPr>
        <p:blipFill>
          <a:blip r:embed="rId1"/>
          <a:stretch/>
        </p:blipFill>
        <p:spPr>
          <a:xfrm>
            <a:off x="1219320" y="1984320"/>
            <a:ext cx="6324480" cy="45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Дејств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ВФ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219320" y="1599840"/>
            <a:ext cx="7772400" cy="21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имарно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ејство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рмичк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кундар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ејств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0" name="Picture 5" descr=""/>
          <p:cNvPicPr/>
          <p:nvPr/>
        </p:nvPicPr>
        <p:blipFill>
          <a:blip r:embed="rId1"/>
          <a:stretch/>
        </p:blipFill>
        <p:spPr>
          <a:xfrm>
            <a:off x="3809880" y="2895480"/>
            <a:ext cx="4953240" cy="3429000"/>
          </a:xfrm>
          <a:prstGeom prst="rect">
            <a:avLst/>
          </a:prstGeom>
          <a:ln cap="sq" w="1260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Експериментални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докази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физичког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термичког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)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деловања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ВФС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а</a:t>
            </a:r>
            <a:r>
              <a:rPr b="0" lang="sr-Latn-C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на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организам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М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c Lenna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рв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прувет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оставље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ољ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ратких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алас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брж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загрев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ег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прувет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румом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вај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ксперимент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оказуј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реди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брж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загрев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к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м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иш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честиц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ећ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ј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рењ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Е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nssa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раствор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арафи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ип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мал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N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C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3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обиј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мулзиј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ој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ључ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ољ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Ф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ижој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емператур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ег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ојој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ључ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од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Разлоз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а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горњем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имер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Ко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w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rchic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раствор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лбуми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беланц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)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оагулиш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ољ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Ф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55-57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,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оденом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упатил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62-64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Фарадск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ру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962520" y="12193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арадеј 1831. године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асиметрија, ирегуларност циклуса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тварањ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затварањ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трујног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ол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имарном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алему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ндукциј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кундарном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алем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ндукционог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парат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а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оследиц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аизменичног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тварањ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ол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"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ласичн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блик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700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8" name="Group 6"/>
          <p:cNvGrpSpPr/>
          <p:nvPr/>
        </p:nvGrpSpPr>
        <p:grpSpPr>
          <a:xfrm>
            <a:off x="762120" y="1904760"/>
            <a:ext cx="4038120" cy="4525920"/>
            <a:chOff x="762120" y="1904760"/>
            <a:chExt cx="4038120" cy="4525920"/>
          </a:xfrm>
        </p:grpSpPr>
        <p:sp>
          <p:nvSpPr>
            <p:cNvPr id="149" name="Line 7"/>
            <p:cNvSpPr/>
            <p:nvPr/>
          </p:nvSpPr>
          <p:spPr>
            <a:xfrm>
              <a:off x="798480" y="4642200"/>
              <a:ext cx="400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Line 8"/>
            <p:cNvSpPr/>
            <p:nvPr/>
          </p:nvSpPr>
          <p:spPr>
            <a:xfrm flipV="1">
              <a:off x="762120" y="1919880"/>
              <a:ext cx="0" cy="256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Line 9"/>
            <p:cNvSpPr/>
            <p:nvPr/>
          </p:nvSpPr>
          <p:spPr>
            <a:xfrm flipV="1">
              <a:off x="762840" y="1904760"/>
              <a:ext cx="0" cy="265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Freeform 10"/>
            <p:cNvSpPr/>
            <p:nvPr/>
          </p:nvSpPr>
          <p:spPr>
            <a:xfrm>
              <a:off x="939600" y="3164400"/>
              <a:ext cx="376560" cy="24364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Freeform 11"/>
            <p:cNvSpPr/>
            <p:nvPr/>
          </p:nvSpPr>
          <p:spPr>
            <a:xfrm>
              <a:off x="1426320" y="2350440"/>
              <a:ext cx="170280" cy="33022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Freeform 12"/>
            <p:cNvSpPr/>
            <p:nvPr/>
          </p:nvSpPr>
          <p:spPr>
            <a:xfrm>
              <a:off x="2760120" y="3055680"/>
              <a:ext cx="437040" cy="249372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Freeform 13"/>
            <p:cNvSpPr/>
            <p:nvPr/>
          </p:nvSpPr>
          <p:spPr>
            <a:xfrm>
              <a:off x="1818360" y="3231720"/>
              <a:ext cx="345240" cy="23518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Freeform 14"/>
            <p:cNvSpPr/>
            <p:nvPr/>
          </p:nvSpPr>
          <p:spPr>
            <a:xfrm>
              <a:off x="2368080" y="2703240"/>
              <a:ext cx="232920" cy="37274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Експериментални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докази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физичког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термичког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)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деловања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ВФС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-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а</a:t>
            </a:r>
            <a:r>
              <a:rPr b="0" lang="sr-Latn-C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на</a:t>
            </a:r>
            <a:r>
              <a:rPr b="0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ffcc66"/>
                </a:solidFill>
                <a:latin typeface="Times New Roman"/>
              </a:rPr>
              <a:t>организам</a:t>
            </a:r>
            <a:br>
              <a:rPr sz="32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Schliephak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екна хлеба се пресече на три дела и између њих се ставе изолаторске плоче. Када се на крајевима векне укључи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TD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 унутрашњи део векне има 5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, а спољашњи делови 60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. Ако укључимо у коло КТ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-а, температура у сва три дела векне ће бити иста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cc66"/>
                </a:solidFill>
                <a:latin typeface="Times New Roman"/>
              </a:rPr>
              <a:t>Високофреквентна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sr-CS" sz="4400" spc="-1" strike="noStrike">
                <a:solidFill>
                  <a:srgbClr val="ffcc66"/>
                </a:solidFill>
                <a:latin typeface="Times New Roman"/>
              </a:rPr>
              <a:t>стру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изменичн</a:t>
            </a:r>
            <a:r>
              <a:rPr b="0" lang="sr-Latn-CS" sz="30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труј</a:t>
            </a:r>
            <a:r>
              <a:rPr b="0" lang="sr-Latn-CS" sz="3000" spc="-1" strike="noStrike">
                <a:solidFill>
                  <a:srgbClr val="eaeaea"/>
                </a:solidFill>
                <a:latin typeface="Times New Roman"/>
              </a:rPr>
              <a:t>a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фреквенцијом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преко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100 000 </a:t>
            </a:r>
            <a:r>
              <a:rPr b="0" lang="sr-Latn-CS" sz="3000" spc="-1" strike="noStrike">
                <a:solidFill>
                  <a:srgbClr val="eaeaea"/>
                </a:solidFill>
                <a:latin typeface="Times New Roman"/>
              </a:rPr>
              <a:t>Hz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000" spc="-1" strike="noStrike">
                <a:solidFill>
                  <a:srgbClr val="eaeaea"/>
                </a:solidFill>
                <a:latin typeface="Times New Roman"/>
              </a:rPr>
              <a:t>специфични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000" spc="-1" strike="noStrike">
                <a:solidFill>
                  <a:srgbClr val="eaeaea"/>
                </a:solidFill>
                <a:latin typeface="Times New Roman"/>
              </a:rPr>
              <a:t>облик</a:t>
            </a:r>
            <a:r>
              <a:rPr b="1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000" spc="-1" strike="noStrike">
                <a:solidFill>
                  <a:srgbClr val="eaeaea"/>
                </a:solidFill>
                <a:latin typeface="Times New Roman"/>
              </a:rPr>
              <a:t>термотерапиј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оквиру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ког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користи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топлот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кој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стај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претварањем</a:t>
            </a:r>
            <a:r>
              <a:rPr b="0" lang="sr-Latn-C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Latn-CS" sz="3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ff0000"/>
                </a:solidFill>
                <a:latin typeface="Times New Roman"/>
              </a:rPr>
              <a:t>конверзијом</a:t>
            </a:r>
            <a:r>
              <a:rPr b="0" lang="sr-Latn-CS" sz="30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 апсорбован</a:t>
            </a:r>
            <a:r>
              <a:rPr b="0" lang="sr-Latn-CS" sz="3000" spc="-1" strike="noStrike">
                <a:solidFill>
                  <a:srgbClr val="eaeaea"/>
                </a:solidFill>
                <a:latin typeface="Times New Roman"/>
              </a:rPr>
              <a:t>e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електромагнетн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енергије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Топлот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творен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организму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овај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чин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зив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000" spc="-1" strike="noStrike" u="sng">
                <a:solidFill>
                  <a:srgbClr val="eaeaea"/>
                </a:solidFill>
                <a:uFillTx/>
                <a:latin typeface="Times New Roman"/>
              </a:rPr>
              <a:t>ендогеном</a:t>
            </a:r>
            <a:r>
              <a:rPr b="1" lang="en-US" sz="30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1" lang="sr-CS" sz="3000" spc="-1" strike="noStrike" u="sng">
                <a:solidFill>
                  <a:srgbClr val="eaeaea"/>
                </a:solidFill>
                <a:uFillTx/>
                <a:latin typeface="Times New Roman"/>
              </a:rPr>
              <a:t>топлотом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зато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што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стај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амим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ткивим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з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разлику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егзоген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топлот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којом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делује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пољ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кожу</a:t>
            </a:r>
            <a:r>
              <a:rPr b="0" lang="en-US" sz="3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екундарн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дејств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ВФ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циркулацију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вазодилататорн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ервн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истем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едативно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аналгетск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ишић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релаксациј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везиво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већањ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стегљивости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метаболизам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ензимску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активнос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бактериостатичк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бактерицидно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ејств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Подел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ВФС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'Arsonvalizacija (100.000 Hz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</a:t>
            </a:r>
            <a:r>
              <a:rPr b="1" lang="en-GB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ugotalasna dijatermija (500.000 - 1.000.000 Hz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ratkotalasna dijatermija (KTD) 10-100 MHz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ultrakaratkotalasna dijatermija (434,78 MHz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mikrotalasna dijatermija (2.450 MHz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раткоталасн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дијатермиј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алас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ужин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22,12 m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11,06 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реквенциј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3,56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z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27,1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НТИНУИРАНО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МПУЛСН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3" name="Picture 4" descr=""/>
          <p:cNvPicPr/>
          <p:nvPr/>
        </p:nvPicPr>
        <p:blipFill>
          <a:blip r:embed="rId1"/>
          <a:stretch/>
        </p:blipFill>
        <p:spPr>
          <a:xfrm>
            <a:off x="4800600" y="2438280"/>
            <a:ext cx="3962520" cy="38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Апарат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з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ТД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1*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генераторско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л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Наизменичн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руј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једносмерну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Триод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&gt;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анод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атод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решетк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2*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осцилаторно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ло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осцилациј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висок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фреквенциј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3*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ацијентово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ло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cc66"/>
                </a:solidFill>
                <a:latin typeface="Times New Roman"/>
              </a:rPr>
              <a:t>Електроде</a:t>
            </a:r>
            <a:r>
              <a:rPr b="1" lang="en-US" sz="32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cc66"/>
                </a:solidFill>
                <a:latin typeface="Times New Roman"/>
              </a:rPr>
              <a:t>за дијатермију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371240" y="26665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Стаклене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по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eaeaea"/>
                </a:solidFill>
                <a:latin typeface="Times New Roman"/>
              </a:rPr>
              <a:t>Schliephak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е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ањирасте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а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такленим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апама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Плочасте</a:t>
            </a:r>
            <a:r>
              <a:rPr b="1" lang="sl-SI" sz="24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гумене</a:t>
            </a:r>
            <a:r>
              <a:rPr b="1" lang="sl-SI" sz="2400" spc="-1" strike="noStrike">
                <a:solidFill>
                  <a:srgbClr val="eaeaea"/>
                </a:solidFill>
                <a:latin typeface="Times New Roman"/>
              </a:rPr>
              <a:t> - </a:t>
            </a:r>
            <a:r>
              <a:rPr b="1" lang="sr-Latn-CS" sz="2400" spc="-1" strike="noStrike">
                <a:solidFill>
                  <a:srgbClr val="eaeaea"/>
                </a:solidFill>
                <a:latin typeface="Times New Roman"/>
              </a:rPr>
              <a:t>Rab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ове</a:t>
            </a:r>
            <a:r>
              <a:rPr b="1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r>
              <a:rPr b="1" lang="sl-SI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Калем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Индукциони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кабл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вод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Апарат</a:t>
            </a:r>
            <a:r>
              <a:rPr b="0" lang="sr-CS" sz="4400" spc="-1" strike="noStrike">
                <a:solidFill>
                  <a:srgbClr val="ebebeb"/>
                </a:solidFill>
                <a:latin typeface="Times New Roman"/>
              </a:rPr>
              <a:t> са кондезаторским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електрод</a:t>
            </a:r>
            <a:r>
              <a:rPr b="0" lang="sr-CS" sz="4400" spc="-1" strike="noStrike">
                <a:solidFill>
                  <a:srgbClr val="ebebeb"/>
                </a:solidFill>
                <a:latin typeface="Times New Roman"/>
              </a:rPr>
              <a:t>ам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59" name="Picture 5" descr="Termomed"/>
          <p:cNvPicPr/>
          <p:nvPr/>
        </p:nvPicPr>
        <p:blipFill>
          <a:blip r:embed="rId1"/>
          <a:stretch/>
        </p:blipFill>
        <p:spPr>
          <a:xfrm>
            <a:off x="3352680" y="1828800"/>
            <a:ext cx="2843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2209680" y="420840"/>
            <a:ext cx="487692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59436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bebeb"/>
                </a:solidFill>
                <a:latin typeface="Times New Roman"/>
              </a:rPr>
              <a:t>А</a:t>
            </a:r>
            <a:r>
              <a:rPr b="1" lang="en-US" sz="3200" spc="-1" strike="noStrike">
                <a:solidFill>
                  <a:srgbClr val="ebebeb"/>
                </a:solidFill>
                <a:latin typeface="Times New Roman"/>
              </a:rPr>
              <a:t>)  </a:t>
            </a:r>
            <a:r>
              <a:rPr b="1" lang="sr-CS" sz="3200" spc="-1" strike="noStrike">
                <a:solidFill>
                  <a:srgbClr val="ebebeb"/>
                </a:solidFill>
                <a:latin typeface="Times New Roman"/>
              </a:rPr>
              <a:t>Кондензаторско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143000" y="23623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ндензаторно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ље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вара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змеђу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ва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ндензатора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ндензатори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у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ачињени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еталних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лоча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је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у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ложене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еким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золатором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акло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гума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аучук</a:t>
            </a:r>
            <a:r>
              <a:rPr b="0" lang="it-IT" sz="2800" spc="-1" strike="noStrike">
                <a:solidFill>
                  <a:srgbClr val="eaeaea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Стаклене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по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eaeaea"/>
                </a:solidFill>
                <a:latin typeface="Times New Roman"/>
              </a:rPr>
              <a:t>Schliephake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ањирасте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а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такленим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апама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Плочасте</a:t>
            </a:r>
            <a:r>
              <a:rPr b="1" lang="sl-SI" sz="24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гумене</a:t>
            </a:r>
            <a:r>
              <a:rPr b="1" lang="sl-SI" sz="2400" spc="-1" strike="noStrike">
                <a:solidFill>
                  <a:srgbClr val="eaeaea"/>
                </a:solidFill>
                <a:latin typeface="Times New Roman"/>
              </a:rPr>
              <a:t> – </a:t>
            </a:r>
            <a:r>
              <a:rPr b="1" lang="sr-Latn-CS" sz="2400" spc="-1" strike="noStrike">
                <a:solidFill>
                  <a:srgbClr val="eaeaea"/>
                </a:solidFill>
                <a:latin typeface="Times New Roman"/>
              </a:rPr>
              <a:t>Rabb-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ове</a:t>
            </a:r>
            <a:r>
              <a:rPr b="1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r>
              <a:rPr b="1" lang="sl-SI" sz="24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63" name="Picture 4" descr="Termomed"/>
          <p:cNvPicPr/>
          <p:nvPr/>
        </p:nvPicPr>
        <p:blipFill>
          <a:blip r:embed="rId1"/>
          <a:srcRect l="0" t="0" r="0" b="21429"/>
          <a:stretch/>
        </p:blipFill>
        <p:spPr>
          <a:xfrm>
            <a:off x="7153200" y="0"/>
            <a:ext cx="19908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cc66"/>
                </a:solidFill>
                <a:latin typeface="Times New Roman"/>
              </a:rPr>
              <a:t>Техника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sr-CS" sz="4400" spc="-1" strike="noStrike">
                <a:solidFill>
                  <a:srgbClr val="ffcc66"/>
                </a:solidFill>
                <a:latin typeface="Times New Roman"/>
              </a:rPr>
              <a:t>примен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219320" y="15998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Стабилна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метод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Биполар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хник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лочастим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еталним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одам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Лабилна</a:t>
            </a:r>
            <a:r>
              <a:rPr b="1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метод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онополарна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хник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ктивна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ода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е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лику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аљка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лику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ање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еће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четке</a:t>
            </a:r>
            <a:r>
              <a:rPr b="0" lang="sv-SE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603360" indent="-603360">
              <a:lnSpc>
                <a:spcPct val="7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7162920" cy="5943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bebeb"/>
                </a:solidFill>
                <a:latin typeface="Times New Roman"/>
              </a:rPr>
              <a:t>Б</a:t>
            </a:r>
            <a:r>
              <a:rPr b="1" lang="sv-SE" sz="2800" spc="-1" strike="noStrike">
                <a:solidFill>
                  <a:srgbClr val="ebebeb"/>
                </a:solidFill>
                <a:latin typeface="Times New Roman"/>
              </a:rPr>
              <a:t>)  </a:t>
            </a:r>
            <a:r>
              <a:rPr b="1" lang="sr-CS" sz="2800" spc="-1" strike="noStrike">
                <a:solidFill>
                  <a:srgbClr val="ebebeb"/>
                </a:solidFill>
                <a:latin typeface="Times New Roman"/>
              </a:rPr>
              <a:t>Електрода</a:t>
            </a:r>
            <a:r>
              <a:rPr b="1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bebeb"/>
                </a:solidFill>
                <a:latin typeface="Times New Roman"/>
              </a:rPr>
              <a:t>за</a:t>
            </a:r>
            <a:r>
              <a:rPr b="1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bebeb"/>
                </a:solidFill>
                <a:latin typeface="Times New Roman"/>
              </a:rPr>
              <a:t>електромагнетно</a:t>
            </a:r>
            <a:r>
              <a:rPr b="1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bebeb"/>
                </a:solidFill>
                <a:latin typeface="Times New Roman"/>
              </a:rPr>
              <a:t>поље</a:t>
            </a:r>
            <a:r>
              <a:rPr b="0" lang="sr-Latn-C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боље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се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загревају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мишићи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док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загревање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органа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у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дубини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bebeb"/>
                </a:solidFill>
                <a:latin typeface="Times New Roman"/>
              </a:rPr>
              <a:t>изостаје</a:t>
            </a:r>
            <a:r>
              <a:rPr b="0" lang="sv-SE" sz="28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0" y="20844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а</a:t>
            </a:r>
            <a:r>
              <a:rPr b="1" lang="sv-SE" sz="2400" spc="-1" strike="noStrike" u="sng">
                <a:solidFill>
                  <a:srgbClr val="eaeaea"/>
                </a:solidFill>
                <a:uFillTx/>
                <a:latin typeface="Times New Roman"/>
              </a:rPr>
              <a:t>) </a:t>
            </a: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Калем</a:t>
            </a:r>
            <a:r>
              <a:rPr b="1" lang="sv-SE" sz="24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електроде</a:t>
            </a:r>
            <a:r>
              <a:rPr b="1" lang="sv-SE" sz="2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калем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а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више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мотаја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мештен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кућишту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)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стављају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1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до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5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цм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тела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90360" indent="-9036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1.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Монода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( 14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цм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, 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Р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= 200 W )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90360" indent="-9036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2.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Минода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( 8,5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цм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, 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Р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= 70 W )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90360" indent="-9036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              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3.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Диплода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(   </a:t>
            </a:r>
            <a:r>
              <a:rPr b="0" lang="sr-CS" sz="3000" spc="-1" strike="noStrike">
                <a:solidFill>
                  <a:srgbClr val="eaeaea"/>
                </a:solidFill>
                <a:latin typeface="Times New Roman"/>
              </a:rPr>
              <a:t>Р</a:t>
            </a:r>
            <a:r>
              <a:rPr b="0" lang="sv-SE" sz="3000" spc="-1" strike="noStrike">
                <a:solidFill>
                  <a:srgbClr val="eaeaea"/>
                </a:solidFill>
                <a:latin typeface="Times New Roman"/>
              </a:rPr>
              <a:t> = 200 W )</a:t>
            </a: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90360" indent="-90360">
              <a:lnSpc>
                <a:spcPct val="70000"/>
              </a:lnSpc>
              <a:spcBef>
                <a:spcPts val="751"/>
              </a:spcBef>
              <a:buClr>
                <a:srgbClr val="ffcc66"/>
              </a:buClr>
              <a:buSzPct val="9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eaeaea"/>
              </a:solidFill>
              <a:latin typeface="Times New Roman"/>
            </a:endParaRPr>
          </a:p>
          <a:p>
            <a:pPr marL="90360" indent="-9036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б</a:t>
            </a:r>
            <a:r>
              <a:rPr b="1" lang="sv-SE" sz="2400" spc="-1" strike="noStrike" u="sng">
                <a:solidFill>
                  <a:srgbClr val="eaeaea"/>
                </a:solidFill>
                <a:uFillTx/>
                <a:latin typeface="Times New Roman"/>
              </a:rPr>
              <a:t>) </a:t>
            </a: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Индукциони</a:t>
            </a:r>
            <a:r>
              <a:rPr b="1" lang="sv-SE" sz="24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кабл</a:t>
            </a:r>
            <a:r>
              <a:rPr b="1" lang="sv-SE" sz="24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или</a:t>
            </a:r>
            <a:r>
              <a:rPr b="1" lang="sv-SE" sz="24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вод</a:t>
            </a:r>
            <a:r>
              <a:rPr b="1" lang="sv-SE" sz="24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r>
              <a:rPr b="0" lang="sv-SE" sz="24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оаксијални</a:t>
            </a:r>
            <a:r>
              <a:rPr b="0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абел</a:t>
            </a:r>
            <a:r>
              <a:rPr b="0" lang="sv-SE" sz="2400" spc="-1" strike="noStrike">
                <a:solidFill>
                  <a:srgbClr val="eaeaea"/>
                </a:solidFill>
                <a:latin typeface="Times New Roman"/>
              </a:rPr>
              <a:t> 2-3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м</a:t>
            </a:r>
            <a:r>
              <a:rPr b="0" lang="sv-SE" sz="24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бложен</a:t>
            </a:r>
            <a:r>
              <a:rPr b="0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золатором</a:t>
            </a:r>
            <a:r>
              <a:rPr b="0" lang="sv-SE" sz="24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90360" indent="-90360">
              <a:lnSpc>
                <a:spcPct val="7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ористи</a:t>
            </a:r>
            <a:r>
              <a:rPr b="0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sv-SE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за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бмотавање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екстремитета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за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апликацију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блику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љоснатог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алема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пецијалној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филцаној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навлаци</a:t>
            </a:r>
            <a:r>
              <a:rPr b="0" lang="sl-SI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68" name="Picture 4" descr="KTD monoda"/>
          <p:cNvPicPr/>
          <p:nvPr/>
        </p:nvPicPr>
        <p:blipFill>
          <a:blip r:embed="rId1"/>
          <a:srcRect l="0" t="53904" r="0" b="0"/>
          <a:stretch/>
        </p:blipFill>
        <p:spPr>
          <a:xfrm>
            <a:off x="6811920" y="1981080"/>
            <a:ext cx="2332080" cy="20574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KTD solenoid"/>
          <p:cNvPicPr/>
          <p:nvPr/>
        </p:nvPicPr>
        <p:blipFill>
          <a:blip r:embed="rId2"/>
          <a:stretch/>
        </p:blipFill>
        <p:spPr>
          <a:xfrm>
            <a:off x="6172200" y="6010200"/>
            <a:ext cx="2971800" cy="8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ндукциони кабл (магнетно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71" name="Picture 22" descr=""/>
          <p:cNvPicPr/>
          <p:nvPr/>
        </p:nvPicPr>
        <p:blipFill>
          <a:blip r:embed="rId1"/>
          <a:stretch/>
        </p:blipFill>
        <p:spPr>
          <a:xfrm>
            <a:off x="1295280" y="1371600"/>
            <a:ext cx="78487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273" name="Picture 3" descr=""/>
          <p:cNvPicPr/>
          <p:nvPr/>
        </p:nvPicPr>
        <p:blipFill>
          <a:blip r:embed="rId1"/>
          <a:stretch/>
        </p:blipFill>
        <p:spPr>
          <a:xfrm>
            <a:off x="1371600" y="380880"/>
            <a:ext cx="6781680" cy="6019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Положај електрод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а супротних страна-дубљи ефекат,са исте стране тела-површински ефека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За дубље дејство на 3-4 цм од површине коже, за површно дејство на  1 цм од површине кож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мпулсна КТД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ристи кратке таласе 27,12 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Hz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ји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емитују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мпулсим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ауз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змеђу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импулс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омогућав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да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створена топлота одводи циркулацијо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Примарно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деловањ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ТД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Кондезаторско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љ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оводник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рењ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о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етвар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оплот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ж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ткожно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киво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ДУКТИВ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Р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золатор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ријентациј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ипол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АПАЦИТИВН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Електро</a:t>
            </a:r>
            <a:r>
              <a:rPr b="0" lang="sr-CS" sz="3200" spc="-1" strike="noStrike" u="sng">
                <a:solidFill>
                  <a:srgbClr val="eaeaea"/>
                </a:solidFill>
                <a:uFillTx/>
                <a:latin typeface="Times New Roman"/>
              </a:rPr>
              <a:t>магнетно</a:t>
            </a: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Times New Roman"/>
              </a:rPr>
              <a:t>пољ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ндукцијом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астај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ртлож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руј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укоов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окрвљеним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регијама,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ишићим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с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Начини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загревањ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од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ТД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Кондезаторско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пољ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ндуктив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руј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рењем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он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акле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растојањ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л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Schliephake-o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е), ил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лочаст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гуме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Rabb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ж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асно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киво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Индукционо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пољ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ртлож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уј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алем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инод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8,5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цм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70 W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онод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14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цм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200 W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ндукцио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абл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ишић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6" descr="KTD dub"/>
          <p:cNvPicPr/>
          <p:nvPr/>
        </p:nvPicPr>
        <p:blipFill>
          <a:blip r:embed="rId1"/>
          <a:stretch/>
        </p:blipFill>
        <p:spPr>
          <a:xfrm>
            <a:off x="2209680" y="152280"/>
            <a:ext cx="48769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3" descr="KTD1"/>
          <p:cNvPicPr/>
          <p:nvPr/>
        </p:nvPicPr>
        <p:blipFill>
          <a:blip r:embed="rId1"/>
          <a:srcRect l="0" t="0" r="4409" b="0"/>
          <a:stretch/>
        </p:blipFill>
        <p:spPr>
          <a:xfrm>
            <a:off x="1219320" y="347760"/>
            <a:ext cx="3886200" cy="24876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4" descr="KTD aplikacija"/>
          <p:cNvPicPr/>
          <p:nvPr/>
        </p:nvPicPr>
        <p:blipFill>
          <a:blip r:embed="rId2"/>
          <a:srcRect l="0" t="0" r="13027" b="0"/>
          <a:stretch/>
        </p:blipFill>
        <p:spPr>
          <a:xfrm>
            <a:off x="1523880" y="3048120"/>
            <a:ext cx="2362320" cy="380988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5" descr="KTD kolena"/>
          <p:cNvPicPr/>
          <p:nvPr/>
        </p:nvPicPr>
        <p:blipFill>
          <a:blip r:embed="rId3"/>
          <a:stretch/>
        </p:blipFill>
        <p:spPr>
          <a:xfrm>
            <a:off x="4876920" y="2365200"/>
            <a:ext cx="4267080" cy="424044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9" descr="KTD dub2"/>
          <p:cNvPicPr/>
          <p:nvPr/>
        </p:nvPicPr>
        <p:blipFill>
          <a:blip r:embed="rId4"/>
          <a:stretch/>
        </p:blipFill>
        <p:spPr>
          <a:xfrm>
            <a:off x="5181480" y="380880"/>
            <a:ext cx="38102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Техник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примен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абилн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лабил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арадизациј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4572000" y="2171880"/>
            <a:ext cx="4233960" cy="2514600"/>
          </a:xfrm>
          <a:prstGeom prst="rect">
            <a:avLst/>
          </a:prstGeom>
          <a:ln cap="sq" w="1260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KTD monoda"/>
          <p:cNvPicPr/>
          <p:nvPr/>
        </p:nvPicPr>
        <p:blipFill>
          <a:blip r:embed="rId1"/>
          <a:stretch/>
        </p:blipFill>
        <p:spPr>
          <a:xfrm>
            <a:off x="3587760" y="304920"/>
            <a:ext cx="3035160" cy="57909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KTD monoda rame i lice"/>
          <p:cNvPicPr/>
          <p:nvPr/>
        </p:nvPicPr>
        <p:blipFill>
          <a:blip r:embed="rId2"/>
          <a:stretch/>
        </p:blipFill>
        <p:spPr>
          <a:xfrm>
            <a:off x="0" y="304920"/>
            <a:ext cx="5029200" cy="24192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6" descr="KTD potkolenica"/>
          <p:cNvPicPr/>
          <p:nvPr/>
        </p:nvPicPr>
        <p:blipFill>
          <a:blip r:embed="rId3"/>
          <a:stretch/>
        </p:blipFill>
        <p:spPr>
          <a:xfrm>
            <a:off x="0" y="2743200"/>
            <a:ext cx="2185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ebebeb"/>
                </a:solidFill>
                <a:latin typeface="Times New Roman"/>
              </a:rPr>
              <a:t>Примена</a:t>
            </a:r>
            <a:r>
              <a:rPr b="0" lang="sr-Latn-C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ebebeb"/>
                </a:solidFill>
                <a:latin typeface="Times New Roman"/>
              </a:rPr>
              <a:t>КТД</a:t>
            </a:r>
            <a:r>
              <a:rPr b="0" lang="sr-Latn-CS" sz="4400" spc="-1" strike="noStrike">
                <a:solidFill>
                  <a:srgbClr val="ebebeb"/>
                </a:solidFill>
                <a:latin typeface="Times New Roman"/>
              </a:rPr>
              <a:t>-</a:t>
            </a:r>
            <a:r>
              <a:rPr b="0" lang="sr-CS" sz="4400" spc="-1" strike="noStrike">
                <a:solidFill>
                  <a:srgbClr val="ebebeb"/>
                </a:solidFill>
                <a:latin typeface="Times New Roman"/>
              </a:rPr>
              <a:t>а</a:t>
            </a:r>
            <a:r>
              <a:rPr b="0" lang="sr-Latn-C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ebebeb"/>
                </a:solidFill>
                <a:latin typeface="Times New Roman"/>
              </a:rPr>
              <a:t>у</a:t>
            </a:r>
            <a:r>
              <a:rPr b="0" lang="sr-Latn-C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ebebeb"/>
                </a:solidFill>
                <a:latin typeface="Times New Roman"/>
              </a:rPr>
              <a:t>лечењу</a:t>
            </a:r>
            <a:r>
              <a:rPr b="0" lang="sr-Latn-C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ebebeb"/>
                </a:solidFill>
                <a:latin typeface="Times New Roman"/>
              </a:rPr>
              <a:t>стерилитет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767880" y="2286000"/>
            <a:ext cx="7689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име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ормонал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рапиј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кушај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ештачк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плодњ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вод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рапиј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ирушк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нтервенциј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снов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циљ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д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име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ТД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стигн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иперемиј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иво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ал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арлице, чим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рга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бивај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ипремље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имулиса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з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ктивност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.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295" name="Content Placeholder 3" descr="ktd pac2.jpg"/>
          <p:cNvPicPr/>
          <p:nvPr/>
        </p:nvPicPr>
        <p:blipFill>
          <a:blip r:embed="rId1"/>
          <a:stretch/>
        </p:blipFill>
        <p:spPr>
          <a:xfrm>
            <a:off x="1785960" y="380880"/>
            <a:ext cx="6367320" cy="5586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Ендоген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топлот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297" name="Picture 7" descr=""/>
          <p:cNvPicPr/>
          <p:nvPr/>
        </p:nvPicPr>
        <p:blipFill>
          <a:blip r:embed="rId1"/>
          <a:stretch/>
        </p:blipFill>
        <p:spPr>
          <a:xfrm>
            <a:off x="2343240" y="2171880"/>
            <a:ext cx="420984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cc66"/>
                </a:solidFill>
                <a:latin typeface="Times New Roman"/>
              </a:rPr>
              <a:t>Дозирање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21932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озирањ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ијатермиј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рш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200b5b"/>
                </a:solidFill>
                <a:latin typeface="Times New Roman"/>
              </a:rPr>
              <a:t>ватима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Максималн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оз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знос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о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100W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оз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дређуј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ем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убјективном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сећај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болесника-треб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сећ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ијатн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благ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оплот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Дозирањ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ТД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атермичка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ем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икаквог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сећај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оплот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олиготермичка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-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едв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очљив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сећај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оплот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термичка-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ијатна топлот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eaeaea"/>
                </a:solidFill>
                <a:latin typeface="Times New Roman"/>
              </a:rPr>
              <a:t>хипертермичка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–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јак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сећај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оплот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028840" y="4266720"/>
            <a:ext cx="3809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трајање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процедур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5-30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ин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дужина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третма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10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ан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Индикациј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з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ТД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сттрауматск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ањ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њихов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мпликациј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(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рист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д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вежих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вред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запаљенск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егенератив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анзглоб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реуматизм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аз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ремисиј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гинеколошк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ронич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еспецифич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запаљењ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аститис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ерилитет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имарн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кундарн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РЛ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инуситис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роничн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титис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еуролошк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ољењ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: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еуралгиј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еуритис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нфилтрат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сл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хируршких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ољењ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нфилтрат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сл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пал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лућ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леурит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бсцес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 algn="just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ж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ољењ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з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нтибиотск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р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urunkuli,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rbunculi.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онтраиндикациј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з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КТД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фебрилнос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кут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нфектив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ољењ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клоност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рварењу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гравидите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БЦ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ремећај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нзибилитет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рмичк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раж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ета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клузивн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ртеријск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ољењ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ace mak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Мере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опрез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218960" y="160020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ace mak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луш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парат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ат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итетик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в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рсте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етал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Благ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оплот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РАПЕУТ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ОСТОРИЈ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81480" y="160020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справ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аблов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без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крштањ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одиривањ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Гуме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елов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без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нтакт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лом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бол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тезни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гајтан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рук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Без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мерања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ebebeb"/>
                </a:solidFill>
                <a:latin typeface="Times New Roman"/>
              </a:rPr>
              <a:t>Мере</a:t>
            </a:r>
            <a:r>
              <a:rPr b="1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lang="sr-CS" sz="4400" spc="-1" strike="noStrike">
                <a:solidFill>
                  <a:srgbClr val="ebebeb"/>
                </a:solidFill>
                <a:latin typeface="Times New Roman"/>
              </a:rPr>
              <a:t>предострожности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1066320" y="18288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пацијенту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треба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објаснит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да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току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сеансе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треба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да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осет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благу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топлоту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Пр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примен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КТД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не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вред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девиза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: "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јаче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помаже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више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"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каблов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кој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повезују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елецтроде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с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апаратом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морају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бит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исправн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не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смеју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укрштат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нит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додиривати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64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водити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рачуна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eaeaea"/>
                </a:solidFill>
                <a:latin typeface="Times New Roman"/>
              </a:rPr>
              <a:t>да</a:t>
            </a:r>
            <a:r>
              <a:rPr b="0" lang="en-US" sz="26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гумен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делов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електрода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прикључних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каблова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не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додирују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тело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пацијента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cc66"/>
                </a:solidFill>
                <a:latin typeface="Times New Roman"/>
              </a:rPr>
              <a:t>Неофарадска</a:t>
            </a:r>
            <a:r>
              <a:rPr b="1" lang="sv-SE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1" lang="sr-CS" sz="4400" spc="-1" strike="noStrike">
                <a:solidFill>
                  <a:srgbClr val="ffcc66"/>
                </a:solidFill>
                <a:latin typeface="Times New Roman"/>
              </a:rPr>
              <a:t>стру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pSp>
        <p:nvGrpSpPr>
          <p:cNvPr id="163" name="Group 4"/>
          <p:cNvGrpSpPr/>
          <p:nvPr/>
        </p:nvGrpSpPr>
        <p:grpSpPr>
          <a:xfrm>
            <a:off x="2438280" y="2438280"/>
            <a:ext cx="5791320" cy="1919520"/>
            <a:chOff x="2438280" y="2438280"/>
            <a:chExt cx="5791320" cy="1919520"/>
          </a:xfrm>
        </p:grpSpPr>
        <p:sp>
          <p:nvSpPr>
            <p:cNvPr id="164" name="Line 5"/>
            <p:cNvSpPr/>
            <p:nvPr/>
          </p:nvSpPr>
          <p:spPr>
            <a:xfrm>
              <a:off x="2468160" y="4321440"/>
              <a:ext cx="576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Freeform 6"/>
            <p:cNvSpPr/>
            <p:nvPr/>
          </p:nvSpPr>
          <p:spPr>
            <a:xfrm>
              <a:off x="4684320" y="3060720"/>
              <a:ext cx="242640" cy="1251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Freeform 7"/>
            <p:cNvSpPr/>
            <p:nvPr/>
          </p:nvSpPr>
          <p:spPr>
            <a:xfrm>
              <a:off x="6625080" y="3060720"/>
              <a:ext cx="242280" cy="1251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Freeform 8"/>
            <p:cNvSpPr/>
            <p:nvPr/>
          </p:nvSpPr>
          <p:spPr>
            <a:xfrm>
              <a:off x="2683080" y="3060720"/>
              <a:ext cx="242280" cy="12510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Line 9"/>
            <p:cNvSpPr/>
            <p:nvPr/>
          </p:nvSpPr>
          <p:spPr>
            <a:xfrm flipV="1">
              <a:off x="2438280" y="2438280"/>
              <a:ext cx="0" cy="191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9" name="Rectangle 8"/>
          <p:cNvSpPr/>
          <p:nvPr/>
        </p:nvSpPr>
        <p:spPr>
          <a:xfrm>
            <a:off x="1600200" y="4648320"/>
            <a:ext cx="6781680" cy="19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eaea"/>
                </a:solidFill>
                <a:uFillTx/>
                <a:latin typeface="Times New Roman"/>
              </a:rPr>
              <a:t>"</a:t>
            </a:r>
            <a:r>
              <a:rPr b="1" lang="sr-CS" sz="3600" spc="-1" strike="noStrike" u="sng">
                <a:solidFill>
                  <a:srgbClr val="eaeaea"/>
                </a:solidFill>
                <a:uFillTx/>
                <a:latin typeface="Times New Roman"/>
              </a:rPr>
              <a:t>неофарадска</a:t>
            </a:r>
            <a:r>
              <a:rPr b="1" lang="en-US" sz="3600" spc="-1" strike="noStrike" u="sng">
                <a:solidFill>
                  <a:srgbClr val="eaeaea"/>
                </a:solidFill>
                <a:uFillTx/>
                <a:latin typeface="Times New Roman"/>
              </a:rPr>
              <a:t>"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труја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мпул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1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мс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algn="just">
              <a:lnSpc>
                <a:spcPct val="80000"/>
              </a:lnSpc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ауз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20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мс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орист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дијагностичке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0000"/>
                </a:solidFill>
                <a:latin typeface="Times New Roman"/>
              </a:rPr>
              <a:t>сврх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Ултракраткоталасн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дијатермија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218960" y="1599840"/>
            <a:ext cx="3809880" cy="48769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настаје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генератору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са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магнетроном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од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100-500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МХз</a:t>
            </a:r>
            <a:r>
              <a:rPr b="0" lang="sr-Latn-CS" sz="2000" spc="-1" strike="noStrike">
                <a:solidFill>
                  <a:srgbClr val="200b5b"/>
                </a:solidFill>
                <a:latin typeface="Times New Roman"/>
              </a:rPr>
              <a:t>;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фреквенција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је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433,92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МХз</a:t>
            </a:r>
            <a:r>
              <a:rPr b="0" lang="sr-Latn-CS" sz="2000" spc="-1" strike="noStrike">
                <a:solidFill>
                  <a:srgbClr val="200b5b"/>
                </a:solidFill>
                <a:latin typeface="Times New Roman"/>
              </a:rPr>
              <a:t>,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таласна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дужина</a:t>
            </a:r>
            <a:r>
              <a:rPr b="0" lang="en-US" sz="2000" spc="-1" strike="noStrike">
                <a:solidFill>
                  <a:srgbClr val="200b5b"/>
                </a:solidFill>
                <a:latin typeface="Times New Roman"/>
              </a:rPr>
              <a:t> 69 </a:t>
            </a:r>
            <a:r>
              <a:rPr b="0" lang="sr-CS" sz="2000" spc="-1" strike="noStrike">
                <a:solidFill>
                  <a:srgbClr val="200b5b"/>
                </a:solidFill>
                <a:latin typeface="Times New Roman"/>
              </a:rPr>
              <a:t>цм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повољнији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ефекат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загревања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масног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мишићног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ткива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који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износи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4:1,</a:t>
            </a:r>
            <a:r>
              <a:rPr b="0" lang="sr-Latn-CS" sz="2000" spc="-1" strike="noStrike">
                <a:solidFill>
                  <a:srgbClr val="4d4d4d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код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КТД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однос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је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9:1</a:t>
            </a:r>
            <a:r>
              <a:rPr b="0" lang="sr-Latn-CS" sz="2000" spc="-1" strike="noStrike">
                <a:solidFill>
                  <a:srgbClr val="4d4d4d"/>
                </a:solidFill>
                <a:latin typeface="Times New Roman"/>
              </a:rPr>
              <a:t>)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Електрода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је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виду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рефлектора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који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може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имати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различито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поље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зрачења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максимална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доза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4d4d4d"/>
                </a:solidFill>
                <a:latin typeface="Times New Roman"/>
              </a:rPr>
              <a:t>је</a:t>
            </a:r>
            <a:r>
              <a:rPr b="0" lang="en-US" sz="2000" spc="-1" strike="noStrike">
                <a:solidFill>
                  <a:srgbClr val="4d4d4d"/>
                </a:solidFill>
                <a:latin typeface="Times New Roman"/>
              </a:rPr>
              <a:t> 200 W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81480" y="1599840"/>
            <a:ext cx="3810240" cy="4876920"/>
          </a:xfrm>
          <a:prstGeom prst="rect">
            <a:avLst/>
          </a:prstGeom>
          <a:solidFill>
            <a:srgbClr val="bbca3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Топлотни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ефекат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ј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резултат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конверзиј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електромагнетских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талас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у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топлоту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крвни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судови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капиларног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ред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с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проширују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3-10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пут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.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Проширењ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с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након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зрачењ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одржав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неколико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дан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условљено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ј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н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само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топлотним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него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симпатиколитичним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ефектом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Базални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метаболизам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с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повећав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(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Нассет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)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као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и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имунолошк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снаге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000" spc="-1" strike="noStrike">
                <a:solidFill>
                  <a:srgbClr val="660033"/>
                </a:solidFill>
                <a:latin typeface="Times New Roman"/>
              </a:rPr>
              <a:t>организма</a:t>
            </a:r>
            <a:r>
              <a:rPr b="0" lang="en-US" sz="2000" spc="-1" strike="noStrike">
                <a:solidFill>
                  <a:srgbClr val="6600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Микроталасн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дијатерм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114800" cy="47246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660033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660033"/>
                </a:solidFill>
                <a:latin typeface="Times New Roman"/>
              </a:rPr>
              <a:t>електромагнетске радијације високе фреквенције и мале таласне дужине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660033"/>
                </a:solidFill>
                <a:latin typeface="Times New Roman"/>
              </a:rPr>
              <a:t>Фреквенција с 2.000-18.000 МХз,  таласна дужина 15,0-1,67 цм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660033"/>
                </a:solidFill>
                <a:latin typeface="Times New Roman"/>
              </a:rPr>
              <a:t>У терапијским апаратима се користи фреквенција 2.450 МХз и таласна дужина од 12 цм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333760" y="1142640"/>
            <a:ext cx="3809880" cy="5715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Основно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примарно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физичко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деловањ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на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организам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ј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стварањ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ендоген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оплот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озраченом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делу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ела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Продорност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ових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зрака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ј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око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00b5b"/>
                </a:solidFill>
                <a:latin typeface="Times New Roman"/>
              </a:rPr>
              <a:t>5 </a:t>
            </a:r>
            <a:r>
              <a:rPr b="1" lang="sr-CS" sz="2400" spc="-1" strike="noStrike">
                <a:solidFill>
                  <a:srgbClr val="200b5b"/>
                </a:solidFill>
                <a:latin typeface="Times New Roman"/>
              </a:rPr>
              <a:t>цм</a:t>
            </a:r>
            <a:r>
              <a:rPr b="1" lang="en-US" sz="2400" spc="-1" strike="noStrike">
                <a:solidFill>
                  <a:srgbClr val="200b5b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Из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их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разлога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дубљ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положена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кива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н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могу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ретирати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овим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физичким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агенсом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Значајан</a:t>
            </a:r>
            <a:r>
              <a:rPr b="0" lang="sr-Latn-C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ј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ниски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оплотни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коефицијент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абсорпције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масном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киву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 </a:t>
            </a:r>
            <a:r>
              <a:rPr b="0" lang="sr-Latn-CS" sz="2400" spc="-1" strike="noStrike">
                <a:solidFill>
                  <a:srgbClr val="200b5b"/>
                </a:solidFill>
                <a:latin typeface="Times New Roman"/>
              </a:rPr>
              <a:t>(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однос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200b5b"/>
                </a:solidFill>
                <a:latin typeface="Times New Roman"/>
              </a:rPr>
              <a:t>1:1</a:t>
            </a:r>
            <a:r>
              <a:rPr b="0" lang="sr-Latn-C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масног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кива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и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мишићног</a:t>
            </a:r>
            <a:r>
              <a:rPr b="0" lang="en-US" sz="2400" spc="-1" strike="noStrike">
                <a:solidFill>
                  <a:srgbClr val="200b5b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ткива</a:t>
            </a:r>
            <a:r>
              <a:rPr b="0" lang="sr-Latn-CS" sz="2400" spc="-1" strike="noStrike">
                <a:solidFill>
                  <a:srgbClr val="200b5b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200b5b"/>
                </a:solidFill>
                <a:latin typeface="Times New Roman"/>
              </a:rPr>
              <a:t>Мишићи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АТИЧКИ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ЕЛЕКТРИЦИТЕТ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франклинизација</a:t>
            </a:r>
            <a:r>
              <a:rPr b="0" lang="sr-Latn-CS" sz="4400" spc="-1" strike="noStrike">
                <a:solidFill>
                  <a:srgbClr val="ffcc6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име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атичког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ицитет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исоког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апо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(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50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W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)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рапијск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врх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змеђу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в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од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ављ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труј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ал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ачин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д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0,5 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аелектрисањ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о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дговар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ктивној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лектрод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бичн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рист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фект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негативних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ктивних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о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сновн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ефекат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ј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азодилатациј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ојој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ретход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краткотрај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асоконстрикциј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Вазодилатациј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словљав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локалн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повишењ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температур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што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словљав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убрзан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етаболизам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Апликациј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може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бит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општ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eaeaea"/>
                </a:solidFill>
                <a:latin typeface="Times New Roman"/>
              </a:rPr>
              <a:t>локална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cc66"/>
                </a:solidFill>
                <a:latin typeface="Times New Roman"/>
              </a:rPr>
              <a:t>Транскутана</a:t>
            </a:r>
            <a:r>
              <a:rPr b="0" lang="sv-SE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600" spc="-1" strike="noStrike">
                <a:solidFill>
                  <a:srgbClr val="ffcc66"/>
                </a:solidFill>
                <a:latin typeface="Times New Roman"/>
              </a:rPr>
              <a:t>електрична</a:t>
            </a:r>
            <a:r>
              <a:rPr b="0" lang="sr-Latn-C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600" spc="-1" strike="noStrike">
                <a:solidFill>
                  <a:srgbClr val="ffcc66"/>
                </a:solidFill>
                <a:latin typeface="Times New Roman"/>
              </a:rPr>
              <a:t>нервна</a:t>
            </a:r>
            <a:r>
              <a:rPr b="0" lang="sr-Latn-CS" sz="36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3600" spc="-1" strike="noStrike">
                <a:solidFill>
                  <a:srgbClr val="ffcc66"/>
                </a:solidFill>
                <a:latin typeface="Times New Roman"/>
              </a:rPr>
              <a:t>стимулација</a:t>
            </a:r>
            <a:r>
              <a:rPr b="0" lang="sr-Latn-CS" sz="3600" spc="-1" strike="noStrike">
                <a:solidFill>
                  <a:srgbClr val="ffcc66"/>
                </a:solidFill>
                <a:latin typeface="Times New Roman"/>
              </a:rPr>
              <a:t>  </a:t>
            </a:r>
            <a:r>
              <a:rPr b="1" lang="sv-SE" sz="36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1" lang="sr-CS" sz="3600" spc="-1" strike="noStrike">
                <a:solidFill>
                  <a:srgbClr val="ffcc66"/>
                </a:solidFill>
                <a:latin typeface="Times New Roman"/>
              </a:rPr>
              <a:t>ТЕНС</a:t>
            </a:r>
            <a:r>
              <a:rPr b="1" lang="sv-SE" sz="3600" spc="-1" strike="noStrike">
                <a:solidFill>
                  <a:srgbClr val="ffcc66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371600" y="29714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Импулси</a:t>
            </a:r>
            <a:r>
              <a:rPr b="1" lang="sr-Latn-CS" sz="2400" spc="-1" strike="noStrike" u="sng">
                <a:solidFill>
                  <a:srgbClr val="eaeaea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бично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акетима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7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ише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веома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кратких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мпулса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мпулс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раје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0,05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о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0,4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мс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фреквенција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је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75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до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125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мпулси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у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троугли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авоугли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бифазни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монофазни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Мог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имењиват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риј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7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импулс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р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чем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риј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онављ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3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пута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једној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sr-CS" sz="2400" spc="-1" strike="noStrike">
                <a:solidFill>
                  <a:srgbClr val="eaeaea"/>
                </a:solidFill>
                <a:latin typeface="Times New Roman"/>
              </a:rPr>
              <a:t>секунди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72" name="Group 4"/>
          <p:cNvGrpSpPr/>
          <p:nvPr/>
        </p:nvGrpSpPr>
        <p:grpSpPr>
          <a:xfrm>
            <a:off x="2666880" y="1905120"/>
            <a:ext cx="4270320" cy="882360"/>
            <a:chOff x="2666880" y="1905120"/>
            <a:chExt cx="4270320" cy="882360"/>
          </a:xfrm>
        </p:grpSpPr>
        <p:sp>
          <p:nvSpPr>
            <p:cNvPr id="173" name="Line 5"/>
            <p:cNvSpPr/>
            <p:nvPr/>
          </p:nvSpPr>
          <p:spPr>
            <a:xfrm>
              <a:off x="2666880" y="2671920"/>
              <a:ext cx="4270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" name="Line 6"/>
            <p:cNvSpPr/>
            <p:nvPr/>
          </p:nvSpPr>
          <p:spPr>
            <a:xfrm flipV="1">
              <a:off x="2682000" y="1905120"/>
              <a:ext cx="0" cy="76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Freeform 7"/>
            <p:cNvSpPr/>
            <p:nvPr/>
          </p:nvSpPr>
          <p:spPr>
            <a:xfrm>
              <a:off x="2826720" y="2166120"/>
              <a:ext cx="14472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Freeform 8"/>
            <p:cNvSpPr/>
            <p:nvPr/>
          </p:nvSpPr>
          <p:spPr>
            <a:xfrm>
              <a:off x="326124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Freeform 9"/>
            <p:cNvSpPr/>
            <p:nvPr/>
          </p:nvSpPr>
          <p:spPr>
            <a:xfrm>
              <a:off x="336960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Freeform 10"/>
            <p:cNvSpPr/>
            <p:nvPr/>
          </p:nvSpPr>
          <p:spPr>
            <a:xfrm>
              <a:off x="3514320" y="2166120"/>
              <a:ext cx="14472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Freeform 11"/>
            <p:cNvSpPr/>
            <p:nvPr/>
          </p:nvSpPr>
          <p:spPr>
            <a:xfrm>
              <a:off x="365904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Freeform 12"/>
            <p:cNvSpPr/>
            <p:nvPr/>
          </p:nvSpPr>
          <p:spPr>
            <a:xfrm>
              <a:off x="514296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Freeform 13"/>
            <p:cNvSpPr/>
            <p:nvPr/>
          </p:nvSpPr>
          <p:spPr>
            <a:xfrm>
              <a:off x="3116160" y="2166120"/>
              <a:ext cx="14472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Freeform 14"/>
            <p:cNvSpPr/>
            <p:nvPr/>
          </p:nvSpPr>
          <p:spPr>
            <a:xfrm>
              <a:off x="297144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Freeform 15"/>
            <p:cNvSpPr/>
            <p:nvPr/>
          </p:nvSpPr>
          <p:spPr>
            <a:xfrm>
              <a:off x="5251320" y="2166120"/>
              <a:ext cx="14472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Freeform 16"/>
            <p:cNvSpPr/>
            <p:nvPr/>
          </p:nvSpPr>
          <p:spPr>
            <a:xfrm>
              <a:off x="5360040" y="2166120"/>
              <a:ext cx="14472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Freeform 17"/>
            <p:cNvSpPr/>
            <p:nvPr/>
          </p:nvSpPr>
          <p:spPr>
            <a:xfrm>
              <a:off x="550476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" name="Freeform 18"/>
            <p:cNvSpPr/>
            <p:nvPr/>
          </p:nvSpPr>
          <p:spPr>
            <a:xfrm>
              <a:off x="561348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Freeform 19"/>
            <p:cNvSpPr/>
            <p:nvPr/>
          </p:nvSpPr>
          <p:spPr>
            <a:xfrm>
              <a:off x="572184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" name="Freeform 20"/>
            <p:cNvSpPr/>
            <p:nvPr/>
          </p:nvSpPr>
          <p:spPr>
            <a:xfrm>
              <a:off x="5034240" y="2166120"/>
              <a:ext cx="144360" cy="621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Транскутан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електричн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стимулација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(</a:t>
            </a:r>
            <a:r>
              <a:rPr b="0" lang="sr-CS" sz="4400" spc="-1" strike="noStrike">
                <a:solidFill>
                  <a:srgbClr val="ffcc66"/>
                </a:solidFill>
                <a:latin typeface="Times New Roman"/>
              </a:rPr>
              <a:t>ТЕНС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21932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ЕС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терапиј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бол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правоугл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бифазн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ил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монофазни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импулси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фреквенција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је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од</a:t>
            </a:r>
            <a:r>
              <a:rPr b="1" lang="en-US" sz="2800" spc="-1" strike="noStrike">
                <a:solidFill>
                  <a:srgbClr val="eaeaea"/>
                </a:solidFill>
                <a:latin typeface="Times New Roman"/>
              </a:rPr>
              <a:t> 2-200 Hz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Трајање имп 50-500 микросекунд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Облици: конвенционалн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                    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сличан акупунктур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                    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у салвама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                     </a:t>
            </a:r>
            <a:r>
              <a:rPr b="1" lang="sr-CS" sz="2800" spc="-1" strike="noStrike">
                <a:solidFill>
                  <a:srgbClr val="eaeaea"/>
                </a:solidFill>
                <a:latin typeface="Times New Roman"/>
              </a:rPr>
              <a:t>модулисани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gate control" </a:t>
            </a:r>
            <a:r>
              <a:rPr b="1" lang="sr-CS" sz="4400" spc="-1" strike="noStrike">
                <a:solidFill>
                  <a:srgbClr val="ffcc66"/>
                </a:solidFill>
                <a:latin typeface="Times New Roman"/>
              </a:rPr>
              <a:t>теориј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2193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врата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,,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у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sups gelatinosi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предњих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рогова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кичмене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мождине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компетиција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танких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и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дебелих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нервних</a:t>
            </a: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влакана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Times New Roman"/>
              </a:rPr>
              <a:t>А бета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/А делта и Ц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GABA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кочи пренос болних сигнала на ћелије у 5.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ламини к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м. ,,затвара врата,, у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Times New Roman"/>
              </a:rPr>
              <a:t>задњим роговима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18:31:21Z</dcterms:created>
  <dc:creator>WIN98SE</dc:creator>
  <dc:description/>
  <dc:language>en-US</dc:language>
  <cp:lastModifiedBy>Info</cp:lastModifiedBy>
  <dcterms:modified xsi:type="dcterms:W3CDTF">2018-11-03T18:30:16Z</dcterms:modified>
  <cp:revision>48</cp:revision>
  <dc:subject/>
  <dc:title>NAIZMENIČNE STRUJE</dc:title>
</cp:coreProperties>
</file>